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249-87B4-45E7-B535-3EE5A41C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1B2-624F-4000-A73E-3395671E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96D-3880-440F-A56F-F3AD73CB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A69-7481-4354-B577-C85EBE3D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598-DF94-486E-9CB6-9BC39CA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8D6-D940-4357-B820-4E6A4E09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137-67AB-442B-9FD1-1F0EAD2B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C9B-F3B6-40EE-900C-A170BFF6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056-98EC-40C2-97CC-EECD4EDC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DB4-B299-4E60-85CB-2DC872CC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E66-57EA-4A3B-A886-868A1CDA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85E-5889-4F2B-88A2-5BD11A0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2C92-DEBB-4724-B4EA-3AA3CFE5E663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Project Tea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70640" y="80964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tatus 21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581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6767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5440" y="368604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3676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3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55284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46767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84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960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0960" y="19242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2705040"/>
            <a:ext cx="822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947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O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8480" y="3941640"/>
            <a:ext cx="79200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3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. Hil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76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623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0667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45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813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88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SO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.L. Thom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4760" y="2957400"/>
            <a:ext cx="7923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S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Yang Y.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588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Q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Sonderga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M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. P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79960" y="295740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i Y.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ei X.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E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Svend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352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CM/IM/D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Ha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67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580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961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4840" y="2967120"/>
            <a:ext cx="792360" cy="63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GRM R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Spr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10320" y="2967120"/>
            <a:ext cx="792360" cy="63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Maier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1996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2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440" y="394164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1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J. Rie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1040" y="2705040"/>
            <a:ext cx="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9640" y="394164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Q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 X.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686040"/>
            <a:ext cx="17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3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. Bur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1 /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l. SW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456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ck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71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ang 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M-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 Y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488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084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552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868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Br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275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aseban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.B. 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P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. B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055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B.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6440" y="1541520"/>
            <a:ext cx="11811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PM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Zhang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72080" y="1598760"/>
            <a:ext cx="971640" cy="563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.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968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ng X.Y.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.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49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n Y.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oh K.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72280" y="5865840"/>
            <a:ext cx="644400" cy="17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5520" y="6122880"/>
            <a:ext cx="644400" cy="17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B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9040" y="6380280"/>
            <a:ext cx="644400" cy="17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KLF / M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627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ey Custome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03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69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75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Selma Samrowski</cp:lastModifiedBy>
  <dcterms:modified xsi:type="dcterms:W3CDTF">2006-02-21T17:16:25Z</dcterms:modified>
  <cp:revision>169</cp:revision>
  <dc:subject/>
  <dc:title>PowerPoint</dc:title>
</cp:coreProperties>
</file>